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D385-CE6D-4CA0-AE63-CF47C31570F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otto, San Francesco dal sult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otto, San Francesco dal sult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l’armatura del rettangolo della corn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amorf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isoluzione dell’anamorfo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Holbein, Gli ambasciat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Holbein, risoluzione dell’anamorfosi degli </a:t>
            </a:r>
            <a:r>
              <a:rPr b="1" i="1" lang="it-IT" sz="1200" spc="-1" strike="noStrike">
                <a:solidFill>
                  <a:srgbClr val="000000"/>
                </a:solidFill>
                <a:latin typeface="Times New Roman"/>
              </a:rPr>
              <a:t>Ambasciat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1CF-B8EB-47F7-BF69-C4E65210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A7F-0F05-471C-90B5-BD3B5932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5B6B-CFD9-45D0-9330-3B1CB7B0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CF0-9B36-4B31-B21F-9B84E225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3E9-4475-4C26-BC6E-D75A51ED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BF6-F900-4805-A305-C5E9F658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99E-44B3-47B1-8E60-A121CC26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094-89F5-4C18-A496-B3A74C22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9A2-7FE4-462B-88B9-E0C34E59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94D-8464-4EC5-BDB5-CF874647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9E0-E830-4104-9A46-90C71087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4F3B-DF61-47B5-8A3F-B0420099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B9CF-7E25-4E79-8979-95711BD36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iotto_sultano1" descr=""/>
          <p:cNvPicPr/>
          <p:nvPr/>
        </p:nvPicPr>
        <p:blipFill>
          <a:blip r:embed="rId1"/>
          <a:stretch/>
        </p:blipFill>
        <p:spPr>
          <a:xfrm>
            <a:off x="1905120" y="1886040"/>
            <a:ext cx="533376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0" y="1541520"/>
            <a:ext cx="4572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weyden_deposizione" descr=""/>
          <p:cNvPicPr/>
          <p:nvPr/>
        </p:nvPicPr>
        <p:blipFill>
          <a:blip r:embed="rId1"/>
          <a:stretch/>
        </p:blipFill>
        <p:spPr>
          <a:xfrm>
            <a:off x="2811600" y="2043000"/>
            <a:ext cx="3520800" cy="2770200"/>
          </a:xfrm>
          <a:prstGeom prst="rect">
            <a:avLst/>
          </a:prstGeom>
          <a:ln w="0">
            <a:noFill/>
          </a:ln>
        </p:spPr>
      </p:pic>
      <p:pic>
        <p:nvPicPr>
          <p:cNvPr id="51" name="giotto_sultano" descr=""/>
          <p:cNvPicPr/>
          <p:nvPr/>
        </p:nvPicPr>
        <p:blipFill>
          <a:blip r:embed="rId2"/>
          <a:stretch/>
        </p:blipFill>
        <p:spPr>
          <a:xfrm>
            <a:off x="1922400" y="1846440"/>
            <a:ext cx="529740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namorfosi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91976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namorfosi2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671832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holbein_ambasciatori" descr=""/>
          <p:cNvPicPr/>
          <p:nvPr/>
        </p:nvPicPr>
        <p:blipFill>
          <a:blip r:embed="rId1"/>
          <a:stretch/>
        </p:blipFill>
        <p:spPr>
          <a:xfrm>
            <a:off x="2428920" y="1238400"/>
            <a:ext cx="428616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Holbein_cranio_scorciato" descr=""/>
          <p:cNvPicPr/>
          <p:nvPr/>
        </p:nvPicPr>
        <p:blipFill>
          <a:blip r:embed="rId1"/>
          <a:stretch/>
        </p:blipFill>
        <p:spPr>
          <a:xfrm>
            <a:off x="2832120" y="2057400"/>
            <a:ext cx="3479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09:37:23Z</dcterms:created>
  <dc:creator>paolo spinicci</dc:creator>
  <dc:description/>
  <dc:language>en-US</dc:language>
  <cp:lastModifiedBy>paolo spinicci</cp:lastModifiedBy>
  <dcterms:modified xsi:type="dcterms:W3CDTF">2003-06-02T16:31:46Z</dcterms:modified>
  <cp:revision>4</cp:revision>
  <dc:subject/>
  <dc:title>Presentazione di PowerPoint</dc:title>
</cp:coreProperties>
</file>